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A429-2FA1-4405-AC3A-E68D67A1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84B9-BC40-430B-868A-7EF6A6E6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504D-2971-4965-946C-8D510EF7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23A-ABC9-4B85-B6CB-66D28670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FF9-2480-43FA-8271-50F4912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CE1-F7B9-4FFD-B437-E76AE33E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2C53-115B-42C3-8BD5-5240C715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4A9-BFD7-4808-9B5F-7746D9D2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A06-82F4-439E-B848-BE6B0C9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42F-3FCC-41EE-8FB5-82A4C33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94BD-06DD-4F60-BE1A-E7168F4F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EC3-DD1D-4972-BD6F-D1FD8CCD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239-D287-4F62-AE7E-BDF7B1762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chool-kids-clipar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04960" y="685800"/>
            <a:ext cx="5181480" cy="11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Fun Learning Acade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0520" y="5333760"/>
            <a:ext cx="312444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umber of Students: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monstrate in class how proper personal hygiene is being d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n artwork that will express their feelings at the end of the instructional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rriculum Fram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senti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personal hygiene can affect your future?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nit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per personal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dent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air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hysic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proper personal hygiene is being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proper personal hygiene a vital part of our li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you integrate proper personal hygiene in your daily liv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142640" y="685800"/>
            <a:ext cx="7543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ent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proper personal hygie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dental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hair c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necessary steps for physical ca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ssment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project work beg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will give activities that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to the topic. Subsequentl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will be dropped by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ill lead to our t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ork on projects and complete t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eacher will show a video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er personal hygiene follow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lecture, demonstration, group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by pair) as a drill on proper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project work is comple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acher will use an individu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worth 20 points on th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al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individualize approach,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will give a ten-item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 te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ly, the teacher will give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for the students to make a sc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or an artwork that will show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uring understanding on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noteboo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37720" y="23320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about proper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ays to get my students practice the proper personal hygiene not just inside the four walls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some strategies for helping other students to share what they have learned on the instructional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lean_items"/>
          <p:cNvPicPr/>
          <p:nvPr/>
        </p:nvPicPr>
        <p:blipFill>
          <a:blip r:embed="rId1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66520" y="2130120"/>
            <a:ext cx="3886200" cy="1469880"/>
          </a:xfrm>
          <a:prstGeom prst="rect">
            <a:avLst/>
          </a:prstGeom>
          <a:gradFill rotWithShape="0">
            <a:gsLst>
              <a:gs pos="0">
                <a:srgbClr val="6a8486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AFEGU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64008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 lesson on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hygiene is the collection of practices a person habitually performs to maintain good health. Hygiene plays an important role in looking and feeling physically and emotionally well. Proper hygiene practices can not only protect individual heal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notebook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health of all people a person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into contact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stance, viruses and bacteria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spread amongst people du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hygiene. Children are comm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ught about personal hygiene at a yo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 so routine practices may develop early in lif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674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proper personal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elling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iti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grouped by pair and will demonstrate in class the topics to be discu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make a scrap book or an ar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-pencil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are grouped by pair will create a jolly song (steps on the topics discuss) will be the lyrics of the jolly s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write on their journal notebook the proper personal hygiene that they perform at home for 5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sible roles assume in the project sce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28954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are expected to become leaders and at the same time follow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 Effectively with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ed standards and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noteb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instructional segment, the student should be 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dentify the steps on proper personal hyg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00:26Z</dcterms:created>
  <dc:creator>nave1386</dc:creator>
  <dc:description/>
  <dc:language>en-US</dc:language>
  <cp:lastModifiedBy>acer</cp:lastModifiedBy>
  <dcterms:modified xsi:type="dcterms:W3CDTF">2010-09-20T05:45:05Z</dcterms:modified>
  <cp:revision>22</cp:revision>
  <dc:subject/>
  <dc:title>Good Personal Hygiene</dc:title>
</cp:coreProperties>
</file>